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9161-6BE2-4965-BC93-3374A561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B969-D528-47BB-86D1-712F02F9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9B7B-BC1B-45E5-B950-7EF8CDA0D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2E77-C46D-49C0-9A59-F1472964E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80B9-62C2-4B82-9707-B298A6EF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D0DC-6D49-4F2D-BAC5-50247E73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88C8-7815-4EA6-9003-98840E4A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B922-EB5E-46CB-AF97-ED7936A1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9B76-1FA8-40E6-A0BB-13606931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94B3-FA4F-4BDC-B0BF-00E7F584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6BE2-BC30-418F-BFD3-E0A2D97F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1243-3934-4DED-A4AA-B5932B9E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6F63-2780-4DF9-A549-87B01EF44BF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151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130000"/>
              </a:lnSpc>
              <a:spcBef>
                <a:spcPts val="35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200" spc="-1" strike="noStrike">
                <a:solidFill>
                  <a:srgbClr val="ffffff"/>
                </a:solidFill>
                <a:latin typeface="Arial"/>
                <a:cs typeface="????Boutros Rokaa"/>
              </a:rPr>
              <a:t>إني حبة القمح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11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إِنّي حَبَّةُ القَمْحِ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ذُقْتُ الْمَوْتَ كَيْ أَحْيَا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قَلْبي مِن طَعْنِ الرُّمْحِ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أَسْقَى حُبَّهُ الدُّنْيَا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قُوتاً رُوحياً حَيّا.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ِلرُّسْلِ قَالَ الرَّبُ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ِمْ أَنْتُمْ مَحْزونون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ا تَأْسَوْا لا تَغْتَمّو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ا سُلْطَانَ فِي الدُّنْيَ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َغْلِبُ الْمُحِبّينَ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-17136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11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بالمجدِ يَومِي آتٍ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طَالِعٌ مِن بَحْرِ النّورِ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فِي خَفْقِ نَصْرٍ حَيّ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يَعْلو هاماتِ الدّهور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إِذ إِنّي نُورٌ مِن نُور.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8T19:30:44Z</dcterms:created>
  <dc:creator>Charbel Azar</dc:creator>
  <dc:description/>
  <dc:language>en-US</dc:language>
  <cp:lastModifiedBy>-</cp:lastModifiedBy>
  <dcterms:modified xsi:type="dcterms:W3CDTF">2003-01-17T08:42:37Z</dcterms:modified>
  <cp:revision>6</cp:revision>
  <dc:subject/>
  <dc:title>Slide 1</dc:title>
</cp:coreProperties>
</file>